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B52-23AD-4AE8-9618-D6514D40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7FD3-19AC-406E-A98B-2DE88EE1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737-90A2-444A-AEB5-651F8C8C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A5F-E1BC-4A79-A41D-C9E57DA0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23AB-95AA-4B14-8DC3-430E84A5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F11-732E-4326-9D92-B7403A9D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92D-3B90-4C0F-9639-CD258D48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4AA-CBFC-40C6-9650-37C40815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7D2-BD59-4F30-B205-E2F469DF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66B-7F6D-4D34-A993-8726A674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BDA0-3BCC-4E32-9257-F0F4533A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212-ECC8-471B-B42E-41A22832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2557-438C-4EBC-91C3-74C9FC21E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-an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Word Famil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274320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t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4572000"/>
            <a:ext cx="2666880" cy="1905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00400" y="27432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m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D05473_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17366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29000" y="274320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6858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p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H00889_" descr=""/>
          <p:cNvPicPr/>
          <p:nvPr/>
        </p:nvPicPr>
        <p:blipFill>
          <a:blip r:embed="rId1"/>
          <a:stretch/>
        </p:blipFill>
        <p:spPr>
          <a:xfrm>
            <a:off x="3276720" y="4876920"/>
            <a:ext cx="2143080" cy="8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8120" y="27432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7621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f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D08950_" descr=""/>
          <p:cNvPicPr/>
          <p:nvPr/>
        </p:nvPicPr>
        <p:blipFill>
          <a:blip r:embed="rId1"/>
          <a:stretch/>
        </p:blipFill>
        <p:spPr>
          <a:xfrm>
            <a:off x="3048120" y="4114800"/>
            <a:ext cx="205560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00400" y="27432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D06115_" descr=""/>
          <p:cNvPicPr/>
          <p:nvPr/>
        </p:nvPicPr>
        <p:blipFill>
          <a:blip r:embed="rId1"/>
          <a:stretch/>
        </p:blipFill>
        <p:spPr>
          <a:xfrm>
            <a:off x="2971800" y="4495680"/>
            <a:ext cx="2436840" cy="15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8120" y="281952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281952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8380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v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j0391414" descr=""/>
          <p:cNvPicPr/>
          <p:nvPr/>
        </p:nvPicPr>
        <p:blipFill>
          <a:blip r:embed="rId1"/>
          <a:stretch/>
        </p:blipFill>
        <p:spPr>
          <a:xfrm>
            <a:off x="3200400" y="4267080"/>
            <a:ext cx="1812960" cy="17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971800" y="27432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D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j0079194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1936800" cy="250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3:28:54Z</dcterms:created>
  <dc:creator>Wake County Public Schools</dc:creator>
  <dc:description/>
  <dc:language>en-US</dc:language>
  <cp:lastModifiedBy>Wake County Public Schools</cp:lastModifiedBy>
  <dcterms:modified xsi:type="dcterms:W3CDTF">2005-06-14T05:27:59Z</dcterms:modified>
  <cp:revision>14</cp:revision>
  <dc:subject/>
  <dc:title>-ill Word Family</dc:title>
</cp:coreProperties>
</file>